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A42-F45E-493B-85E9-931B57B4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38A-CBBC-48CD-8986-45707BD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FFF-0A49-4690-A64E-849D9CD6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198-8E62-4A25-8895-5261983F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C6F-46FD-49AB-BFCA-EB22F441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74B-5E00-4835-8B59-DCBE80F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3EA-9D70-41F1-92E3-C7E3C1A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6D0-CE8B-476C-AAF0-FECFD47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E0E-EF7C-43C5-8610-AB984732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327-33E7-41F5-8425-F38C618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7FD-FB5C-4E49-AB1B-052011B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4BC-3CAA-4B02-B42A-46EFE2E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AF0-BDF1-459E-B975-72135DF5A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avid Rey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219320"/>
            <a:ext cx="9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http://t0.gstatic.com/images?q=tbn:ANd9GcRdCKjWof9W5zWJIFbdJuEauajYTgx4QxfV9K08TNi2SuH6-xQ5lA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514600" y="1523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t0.gstatic.com/images?q=tbn:ANd9GcTnqM7K8CWcxYcUyB6fNpJpz0IRFwe37EOB4a_VyxNnXaqNcovZUw"/>
          <p:cNvPicPr/>
          <p:nvPr/>
        </p:nvPicPr>
        <p:blipFill>
          <a:blip r:embed="rId1"/>
          <a:stretch/>
        </p:blipFill>
        <p:spPr>
          <a:xfrm>
            <a:off x="3276720" y="342900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 where people vote to make desig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ts3.mm.bing.net/images/thumbnail.aspx?q=1632893346090&amp;id=5d7b05a9bb3133a8b87e6899090f5bb8&amp;url=http%3a%2f%2fwww.thelibertyvoice.com%2fwp-content%2fuploads%2f2010%2f06%2f633611418566621433-Democrac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828800" y="1600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2.gstatic.com/images?q=tbn:ANd9GcRGCgbi2yBNTrMDDvkeOMN7csQp5hjlb59dNkraQTvW9u33vPr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st 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http://t3.gstatic.com/images?q=tbn:ANd9GcSTz9CAC1C1NfZBfvsoyGl0SAdqW4qG4Tme4bX0S9DpjDSJDmVAV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s1.mm.bing.net/images/thumbnail.aspx?q=1606968543236&amp;id=37156208650964fb6674b2352413ce85&amp;url=http%3a%2f%2fupload.wikimedia.org%2fwikipedia%2fcommons%2f3%2f37%2fAcropolis_of_Athens_01361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ts4.mm.bing.net/images/thumbnail.aspx?q=1581856075387&amp;id=2ebc77a42262dd046b5dc85e22490d6c&amp;url=http%3a%2f%2fwww.mccullagh.org%2fdb9%2f1ds-12%2froman-agora.jpg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s1.mm.bing.net/images/thumbnail.aspx?q=1626340924836&amp;id=352da4d525efe49eadfeb303d7cb6348&amp;url=http%3a%2f%2fwww.burdosclassroom.org%2fworldhistorywiki%2fimages%2fc%2fc8%2fPicture2.jpg"/>
          <p:cNvPicPr/>
          <p:nvPr/>
        </p:nvPicPr>
        <p:blipFill>
          <a:blip r:embed="rId1"/>
          <a:srcRect l="0" t="0" r="0" b="1964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s2.mm.bing.net/images/thumbnail.aspx?q=1618245849457&amp;id=8ec1818af6f5a3e5b3220dbde9d6a50f&amp;url=http%3a%2f%2fgreece.mrdonn.org%2fathens1.gif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1814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s1.mm.bing.net/images/thumbnail.aspx?q=1624370196236&amp;id=9a48191c7fd926a00f8e0d8c6b6daa54&amp;url=http%3a%2f%2fwww.nps.gov%2frowi%2fhistoryculture%2fimages%2froger-williams-Welcome_Colony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the de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t2.gstatic.com/images?q=tbn:ANd9GcTDJC3MaE0HCikerrUCSy3Zc7zJYm5j_C8YN1N2sCTFmlpMYVAqIQ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90920" y="12952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t3.gstatic.com/images?q=tbn:ANd9GcQiguxFsS_keO4HpFe0EVD7yk4UbRFvIHFoZbUiezNflMd_2cXyVQ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3716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http://t3.gstatic.com/images?q=tbn:ANd9GcSf6vAnFKjvbXNAtQtv8-MhSWNDXZX56RLuj2c_4v2dv-ALp-bV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20:41:49Z</dcterms:modified>
  <cp:revision>99</cp:revision>
  <dc:subject/>
  <dc:title>Ancient Greece</dc:title>
</cp:coreProperties>
</file>